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E05F-E347-441A-9B2E-16D1D16D5E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E3D3-F30E-484C-9B5B-8B0B4C8395F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FE00-3F52-411B-84E5-A992986C721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FEDA-3F19-48F6-8E9A-9623A1DE4B9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5534-DAFB-43BC-B64C-8307089B1AF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A9C6-3E11-410F-9B37-845A5A2F341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6EFA-18D4-42E5-8105-CCB460040B9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D661-150B-4C7D-8E94-46E46A32E88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CD84-ADEE-47CE-943C-4BFC2FB92CA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F1FB-B36F-45D1-B5FC-9FCE3AB6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18FF-27CF-4587-980E-93838359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F7DA-396C-4FB0-92AF-1E2EAFA3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102C-4D1E-44AF-8EAD-AD43C5EC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1853-1504-46C1-B5EE-8C592BAE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22D9-376B-4924-B76B-4E5501D3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9AEE-8922-4FDF-B86A-7AD261D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2EC7-28CE-461D-9B32-41B18FB8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6565-3F68-4A93-B9E2-809792E0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DABB-A255-4EB4-842D-6E03DA91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7D18-78F8-4D1B-BAC9-DB9B8351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F873-2E80-4768-A783-2F7CF928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5483F-9F75-4178-B9D0-1B520BD1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40193-1843-4C7B-8E49-E5BAFC6F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04B2F-4B26-43BF-933E-635A7A22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EE1B1-D30D-42C3-BF31-7EAA57BA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FDE55-AA72-43C6-A322-82C76497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1A5B9-6513-4351-975A-702EF0C6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D2597-7671-48DC-A023-FF90FEE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6CA5F-CB02-40CD-BC79-B7ECF925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E1C1A-83F1-43E5-AD4D-A965F74C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9B935-8CAC-4F3D-9DD2-9462B6FB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2515A-9E8A-47F3-82A1-832820F9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F4F98-0992-4E77-A380-37873494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14D68-9B96-4F4C-ABF1-66F90FA3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9DB84-A0B6-40D1-BBE0-D5B0E549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7B46B-9A15-408B-BFA9-EB23B011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5357D-5E9C-47F9-9AE9-D147321F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1D7D5-0C23-4860-84DF-34DCAE5E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6F69C-41E5-4C0B-8FD3-DD9A90C6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9BB92-7CF9-41CF-B481-04F0154A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4BB4B-BBFD-4C68-9CEC-D4426CDF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7A26B-5DFA-4D79-95D7-E328D07C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ADE4D-D384-4A66-9B0C-A229DBC7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7B586-2CF6-4686-AE32-FE4119D2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5E370-6F68-47F5-BC52-763C56C3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7F68-D6D4-44AD-879F-4D295238891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B5BF-3D3C-4375-BBE6-FA57117199B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098E-8255-4620-A013-20A7A84019E3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6A44-BC45-4C66-BF4D-F4095D5A621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F29D-9FF8-4FC6-A039-3CE13A983BE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AA04-61D6-4AC1-B502-BF819B10B3F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5DC2-94B6-4E50-B1C7-3FF2D671570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7E8D-1329-4CB3-A5AC-9B0CFD0099F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4776-33EC-4DF8-8631-059084A7889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5DD2-8D53-4571-92E7-344A1949389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B33B-9F34-485C-88A0-4D217F2E1B8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FA4F-84AE-4655-BFB8-45C25E9834A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9.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상이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3006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285120" y="1765080"/>
                <a:ext cx="864432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20000" cy="6000840"/>
            <a:chOff x="142920" y="214200"/>
            <a:chExt cx="882000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20000" cy="4429440"/>
              <a:chOff x="142920" y="1785600"/>
              <a:chExt cx="882000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00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1524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R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경험하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81080" y="142920"/>
            <a:ext cx="8820000" cy="6215040"/>
            <a:chOff x="181080" y="142920"/>
            <a:chExt cx="8820000" cy="6215040"/>
          </a:xfrm>
        </p:grpSpPr>
        <p:sp>
          <p:nvSpPr>
            <p:cNvPr id="816" name="AutoShape 2"/>
            <p:cNvSpPr/>
            <p:nvPr/>
          </p:nvSpPr>
          <p:spPr>
            <a:xfrm>
              <a:off x="181080" y="714240"/>
              <a:ext cx="8820000" cy="564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250920" y="908640"/>
              <a:ext cx="871380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화와 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terminal drop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기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Clr>
                  <a:srgbClr val="1d528d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가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은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.8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인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를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03960"/>
            <a:chOff x="108000" y="142920"/>
            <a:chExt cx="9288360" cy="6303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85716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7646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85000"/>
              <a:ext cx="8893080" cy="4961880"/>
              <a:chOff x="108000" y="1485000"/>
              <a:chExt cx="8893080" cy="496188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845000"/>
                <a:ext cx="8893080" cy="4601880"/>
                <a:chOff x="108000" y="1845000"/>
                <a:chExt cx="8893080" cy="460188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7000"/>
                  <a:ext cx="8819640" cy="4529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84500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관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85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존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48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215040"/>
            <a:chOff x="285840" y="0"/>
            <a:chExt cx="8858160" cy="621504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5929560"/>
              <a:chOff x="285840" y="285480"/>
              <a:chExt cx="8643960" cy="592956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16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329840"/>
                <a:ext cx="8504640" cy="46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非可逆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786280"/>
            <a:chOff x="142920" y="428760"/>
            <a:chExt cx="8858160" cy="578628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43400"/>
              <a:chOff x="180720" y="1871640"/>
              <a:chExt cx="8820360" cy="434340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372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고 탄력약화 → 관절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 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7016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000840"/>
            <a:chOff x="181080" y="142920"/>
            <a:chExt cx="8820000" cy="600084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714240"/>
              <a:ext cx="8820000" cy="5429520"/>
              <a:chOff x="181080" y="714240"/>
              <a:chExt cx="8820000" cy="542952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714240"/>
                <a:ext cx="8820000" cy="5429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836280"/>
                <a:ext cx="8643960" cy="50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감소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갑상선질환 증가하나 대부분 정상기능 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교 및 생식기능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1:27:11Z</dcterms:modified>
  <cp:revision>21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